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36B-007C-402A-A88F-E5600CD3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9B3-85F0-41A8-987C-F4AE6CF4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131-61B4-471C-9EBC-44FCA3EE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EE7-6B3B-42E6-9FE0-F69E5C3A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9C0-05B0-46FB-88D5-84573BAF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B5B-08F2-4238-ADE6-62FC1AEC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0AA-A2EA-40A2-A94C-DCE9177A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9D3A-BAD5-4D01-BCE0-69ACC089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2D7-942F-4AAD-ABE0-73EA29FD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9520-13CA-46C2-8B8B-C040A62D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C57-1373-49C1-823F-7350A4D3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183-FA17-4C51-AE98-A3056799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9E0D-5D45-4BA7-8301-E2A3EBDF0BB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iek XVIII – wiek oświecenia, wiek rozumu.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Sapere aude!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Miej odwagę posługiwać się swym własnym rozumem – tak oto brzmi hasło oświecenia” (I. Ka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2089080"/>
            <a:ext cx="7201080" cy="46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Francuska Deklaracja Praw Człowieka z 1789 r. została oparta na ideach Rousseau i Deklaracji Niepodległośc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482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rma demokracji zaproponowana przez Rousseau różniła się od koncepcji Locke’a. Zasadniczym jej motywem było narzucenie siłą woli ogółu (u Locke’a – ochrona wolności jednostk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olę ogółu uważał za najlepsze rozwiązanie dla całości społeczeństwa, choć nierzadko nie zgadzała się ona z pragnieniami jednostek. Wolny lud mógł powierzyć wprowadzenie nowych praw wybranej osobie (królowi czy grupie politykó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774960" cy="50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y rozum śpi, budzą się upi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ymizm oświecenia dotyczący roli rozumu, został mocno zachwiany przez terror rewolucji i formę tyranii jaką ona przybrał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 napisze Hegel 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ozofii dziejó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łąd rewolucji francuskiej polegał na próbie wcielenia w życie czysto abstrakcyjnych zasad filozoficznych, bez uwzględnienia ludzkich skłonnoś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79520" y="1341360"/>
            <a:ext cx="3886200" cy="51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oka filozofów”, którzy chcą przekształcać świ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4788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główne pojęcia określające Oświecen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z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istotna cecha człowieka i zdolność ustanawiania uniwersalnych kryteriów poznania, działania i polity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lnoś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zasada działania osobistego, społecznego i politycz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ę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świat podlega ciągłej naprawie (przyroda dzięki nauce i technice, świat społeczny dzięki wykształceniu, tolerancji religijnej i humanitarnemu praw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yty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zelkich poglądów i instytucji (zwłaszcza absolutystycznego Kościoła)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 modnych kawiarniach spotykają się niezależni literaci, wolnomyśliciele w religii i radykałowie w polity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00024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92360" y="2454120"/>
            <a:ext cx="5472360" cy="39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Wielka Encyklopedia Francuska – „wstępny rozdział do rewolucji”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Robespier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4716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elem 35-tomowej Encyklopedii (1751-1780) było szerzenie wiedzy wyzwolonej z więzów autorytetu, krytycznie sprawdzonej, przeznaczonej dla pożytku ogół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ie z Baconowskim rozróżnieniem trzech władz poznawczych: rozumu, pamięci i wyobraźni, Encyklopedia odnosiła się do trzech dziedzin poznania: filozofii, historii i sztuk pięk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j twórcami byli: Denis Diderot, Jean d’Alembert, La Mettrie, Monteskiusz, Wolter i Rouss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11948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enis Diderot, redaktor Encyklopedii, chciał „zmienić powszechny sposób myśleni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08360" y="2349360"/>
            <a:ext cx="5435640" cy="338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44484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ytyka religii i deiz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51280" y="1412640"/>
            <a:ext cx="3492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yby Bóg nie istniał, trzeba by go wymyślić. Ale cała przyroda woła do nas, że Bóg istnieje” (Wol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różnienie religi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zytywne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artej na Objawieniu i na Biblii, pretendującej do prawdy absolutnej) od religi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ne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religii rozumu, opartej wyłącznie na moralnych uzdolnieniach człowieka (deiz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89440" y="2708280"/>
            <a:ext cx="2571480" cy="319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2741760" cy="30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Jean-Jacques Rousseau – krytyk cywilizac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82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r trzech rewolucyjnych ide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wilizacja nie jest korzystna ani neutralna dla człowieka, lecz szkodli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życiu prywatnym i publicznym powinniśmy kierować się nie nakazami rozumu, lecz głosem uczucia i naturalnym instynktem (sprzeciw wobec idei wszechwładzy rozum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łeczeństwo jest zbiorowym tworem posiadającym własną wolę różną od sumy woli jego indywidualnych członków. Obywatel powinien podporządkować się woli ogół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38720" y="1971720"/>
            <a:ext cx="333216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cepcja „szlachetnego dzikus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3164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g Rousseau człowiek rodzi się dobry, ulega zepsuciu dorastając w społeczeństwie.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łowiek w stanie natury jest „szlachetnym dzikusem” („człowiek z natury jest dobry, kocha sprawiedliwość i porządek”). Dorastając w cywilizowanym świecie uczymy się panować nad instynktami, tłumić prawdziwe uczucia. W efekcie udajemy, że nie myślimy i nie odczuwamy tego, co faktycznie myślimy i odczuwamy. Wynikiem tego jest alienacja jednostki z osobowości, fałsz i hipokryzja. Cywilizacja próbując okiełzać naszą naturę, niszczy to, co dob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413000"/>
            <a:ext cx="43164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zwolenie człowieka z okowów cywilizacji polegać ma na zmianie systemu wychow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acy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Emi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Rousseau przekonuje, że dzieci powinno się zachęcać do wyrażania naturalnych skłonności.  Odrzuca w nauczaniu stosowanie podręczników na rzecz nauki praktycznej poprzez przykłady. Naturalnym środowiskiem nauki powinna być rodzina, a nie szkoła. Zachętą do nauki miłość i współczucie, a nie nakazy i k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Filozofia wychowania wg Rouss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897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agogika ma dwojaki wymiar: negatywny (ochrona wychowanka przed zgubnymi wpływami) i pozytywny (rozwój spontanicznych pobudek i naturalnych instynktó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fazy wychowania: „wiek natury” (2-12 lat); „wiek siły” (12-15 l.); wychowanie moralne i religijne (15-20 l.); wychowanie do miłości (20-25 l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olucyjna teza w pedagogice: dzieciństwo rządzi się własnymi praw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497400" cy="496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5:52:28Z</dcterms:created>
  <dc:creator>Ania</dc:creator>
  <dc:description/>
  <dc:language>en-US</dc:language>
  <cp:lastModifiedBy>Ania</cp:lastModifiedBy>
  <dcterms:modified xsi:type="dcterms:W3CDTF">2009-03-15T17:19:07Z</dcterms:modified>
  <cp:revision>119</cp:revision>
  <dc:subject/>
  <dc:title>Slajd 1</dc:title>
</cp:coreProperties>
</file>