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E2D-B65B-4EE1-87DA-ECC480F5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D6F-FDD9-4800-9798-E1E923E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20C-8DF3-467B-B435-9AB1783D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789-38BE-4A37-BA44-5C9CF18D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5E0-2C53-4331-B8FF-9E5091C5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18A-962F-4AC4-A9AC-BE836A74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6D4-58CC-452C-A081-A635050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63A-1C02-45A1-8671-C20FB6D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382-F930-4BC2-B870-1FEE0757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678-3325-4FF5-AB19-A57B079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116-93F0-4B3D-BB9A-89B67E3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71D-5C4C-4F54-B1E4-D00E4E9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A23-6EE6-4CBA-9633-A53000691F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o to jest oświecen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prowadzenie do epo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. Kant – „Niebo gwiaździste nade mną, prawo moralne we mn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imperatyw kategoryczny (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ostępuj wedle takich tylko zasad, co do których możesz jednocześnie chcieć, żeby stały się prawem powszechny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Jest to jedyna zasada moralna, jaką Kant przyjmuje. Ma ona charakter formalny: nie mówi, co robić i jak – podaje tylko ogólną regułę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nteskiu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oria sprawiedliwego pań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a ustawodawcza, wykonawcza i sądownicza muszą być rozdzie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bro nadrzędne to wolność obywat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rójstylowość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oko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lasycyz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entymentaliz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ko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urt nastawiony na pięk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jęcie rokoka (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rococ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) powstało na bazie słowa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rocaill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prawdopodobnie przez kontaminację ze słowem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barocco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(barok).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Rocaill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ornament asymetryczny, plastyczny, zbudowany z form przypominających muszlę, koguci grzebień lub płomie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ko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lik:Tänzerpaar Höchst 1755 Tänzerin.jpg"/>
          <p:cNvPicPr/>
          <p:nvPr/>
        </p:nvPicPr>
        <p:blipFill>
          <a:blip r:embed="rId1"/>
          <a:stretch/>
        </p:blipFill>
        <p:spPr>
          <a:xfrm>
            <a:off x="0" y="1143000"/>
            <a:ext cx="405756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Plik:Kaendler Liebespaar am Frühstückstisch Meissen 1744.jpg"/>
          <p:cNvPicPr/>
          <p:nvPr/>
        </p:nvPicPr>
        <p:blipFill>
          <a:blip r:embed="rId2"/>
          <a:stretch/>
        </p:blipFill>
        <p:spPr>
          <a:xfrm>
            <a:off x="4410000" y="1152360"/>
            <a:ext cx="4734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ko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równo w życiu, jak i w sztuce, którą traktowano jako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formę wyrafinowanej zabaw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głównymi wartościami estetycznymi były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dzięk i sma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okokowe ideały realizowały się w takich gatunkach, jak: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anakreontyk, epigramat, salonowa komedia, rokokowa odmiana sielan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lasycy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skonały, pierwszorzędny, wzorowy, wyuczony) – styl w muzyce, sztuce, literaturze oraz architekturze odwołujący się do kultury starożytnych Rzymian, Greków oraz Żydów. Styl ten nawiązywał głównie do anty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lasycy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lik:Warszawa Teatr Wielki rzut prostoliniowy.jpg"/>
          <p:cNvPicPr/>
          <p:nvPr/>
        </p:nvPicPr>
        <p:blipFill>
          <a:blip r:embed="rId1"/>
          <a:stretch/>
        </p:blipFill>
        <p:spPr>
          <a:xfrm>
            <a:off x="611280" y="2421000"/>
            <a:ext cx="76197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lasycy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zorowanie się na tematyce i architekturze starożytnej Grecji i Rzy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hęć wiernego odwzorowania elementów dekoracji, stroju czy architektury antyk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tyka zamiast dynamizm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szczędność wyraz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kój - przeciwieństwo barokowej ekspresji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matyka moralizatorska, często propagand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atunki: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bajka, satyra, poemat heroikomiczny, powieść, powiastka filozof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entymentali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urt wywodzący się z filozofii J. J. Rou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ilenie pierwiastka uczuciowe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zerzenie tematyki literatury i wzbogacenie jej o treści społecz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literaturze podkreślanie indywidualizmu bohater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troje elegijne, smutek i melanchol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rowadzenie uczuć litości i empat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rowadzenie folkl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śladowanie natury, ale nie ucywilizowanej, lecz prostej, a nawet dzik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atunki: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ielanka, powieść sentyment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zwa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eceni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g I. Kanta to „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yjście </a:t>
            </a:r>
            <a:br>
              <a:rPr sz="3200"/>
            </a:b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człowieka z niepełnoletności, w którą popadł z własnej winy",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przy czym niepełnoletność rozumiał jako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"niezdolność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człowieka do posługiwania się własnym rozumem". „Sapere aude!”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(„Miej odwagę posługiwać się swym rozumem”) – pisał filoz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entymentali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oucher_Jesien_pasterzy"/>
          <p:cNvPicPr/>
          <p:nvPr/>
        </p:nvPicPr>
        <p:blipFill>
          <a:blip r:embed="rId1"/>
          <a:stretch/>
        </p:blipFill>
        <p:spPr>
          <a:xfrm>
            <a:off x="2224080" y="1700280"/>
            <a:ext cx="3351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zwy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ne nazwy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ek rozumu (Ang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ek filozofów, wiek światła (Franc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zystkie określenia wskazują na nadrzędna rolę rozumu i światłości w życiu człowie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amy czasowe i charakter epo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Epoka trwa od końca XVII wieku do początku XIX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Jest to czas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narchii absolutnych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(Francja, Rosja),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ewolucji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(Wielka Rewolucja Francuska),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alk o niepodległość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(powstanie USA) oraz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eform oświatowych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Coraz częściej pojawiają się odkrycia naukowe (fizyka, biologia, medycyna, ekono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Hasła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unt przeciw autoryte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cjonalizm (Kartezju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humanizowane chrześcijaństwo (deiz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dea oświecenia (edukacja, encyklopedie, bibliote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tymizm (postęp, Lebni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wrót do natury (Rousse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a człowieka (emancypac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artezjusz – „Myślę, więc jes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ceptycyzm (zwątpienie w wartość ludzkiego pozna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cjonalizm (kierunek filozoficzny uznający rozum za podstawowe narzędzie pozna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ohn Lock – „Tabula ras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mpiryzm – doświadczenie jest głównym źródłem wiedzy o świ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ensualizm – źródłem wiedzy są wrażenia zmysł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.J. Rousseau – „Czuję, więc jes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sentymentalizm (kult natury, człowiek to „szlachetny dzikus”, serce jest „narzędziem” poznania, rozum staje się  nieprzydatny, zmysły to „pięć zadymionych okienek”, wszyscy ludzie są sobie rów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yśliciele epo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olter – „Nie zgadzam sie z tym, co mówisz, ale oddam życie, abyś miał prawo to powiedzieć”, „Jeśli Bóg by nie istniał, to trzeba by było go wymyśli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zwolennik tolerancji, przeciwnik fanatyzmu religij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antyklerykał, deista (wierzył w Boga, ale nie uznawał jego władzy nad światem, Bóg to „zegarmistrz świata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01:01Z</dcterms:created>
  <dc:creator>Iwona Pawłowska</dc:creator>
  <dc:description/>
  <dc:language>en-US</dc:language>
  <cp:lastModifiedBy>w7</cp:lastModifiedBy>
  <dcterms:modified xsi:type="dcterms:W3CDTF">2020-03-14T15:53:42Z</dcterms:modified>
  <cp:revision>11</cp:revision>
  <dc:subject/>
  <dc:title>Co to jest oświecenie?</dc:title>
</cp:coreProperties>
</file>